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B2F0-182E-4E19-8E75-2DB84A073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4633-478B-4727-ACD1-E56125D1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6B88-DC70-4C37-A66C-D67982976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34C5-5414-4993-8D35-243339DBE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4E7E9-49E2-455C-B63C-AAF2D3CED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ECF6-9CF4-4D27-B2C9-57B75211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2F4D-198F-42F7-9F1F-20EA2F91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2048-9599-47C7-9587-961867A7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F204-C28F-425F-8C58-8C83D07A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B4881-21B1-4921-A641-113E7C0C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605E-6B51-4DE4-BB11-A50E977C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AF3C-B5B5-40E0-A6DE-E20799C0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F7337-658B-4375-AE7A-2F1BD926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1762-FBC0-450E-A1E2-CA73AA1F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00C8-5DC9-437C-B7E2-4F9F0A24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F0F62-66D7-4414-8567-2BEC5CA5D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CCDE-8CBC-45EE-B881-470E65BF2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5E770-2E1D-431E-B6F0-3AA37FE56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D3587-7A00-41D3-8022-E069C55D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57FE7-F012-467C-A23F-D5CF7A52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BFF02-DCFE-4834-89A7-47D33632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CB0D4-B2D3-46B2-B057-7B60EFF1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7F2E-7242-4490-A134-49CB7D09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0238A-F53B-4025-B348-3A062FE3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7F849-D34F-4023-BFE3-75B2C94F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DDE46-CB36-41E0-928A-FA76E3D1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9F94D-48D9-4B7D-9D54-02F67CED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17343-B088-4B67-9967-78D630FB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6CD29-F292-4628-ADC9-F44F9044F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99040-396A-433A-A7DC-D9367810B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E9DF0-8702-4197-B8C1-13282891D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F41E1-78BB-4505-8445-C7D0E010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C9AF0-71AC-4389-A636-F5DE62A4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44E2-8C3A-4158-8E6D-DB06FDC1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AB12E-F738-4EF8-8FB5-7EC54E17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DF59E-6F47-447C-9FD9-F28DBFEC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C2A83-F90C-4023-B947-16D982B9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1589D-6411-443D-95D0-9B407455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7A321-7C23-4545-B6EF-4AAEF241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F09FD-CDD1-437D-A3D9-F649DAE2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F9069-36E8-4935-A0E0-CCF7C3D8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18156-83D1-48C2-B2DF-2BC601D77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1DE13-B560-4B82-A815-0F9456E15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2C3CC-84B9-48B0-BEA2-50BC94711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3DC2-9B28-4AA6-A102-0D18DBA8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4DB17-E354-48FD-B22C-F40C6478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CDD52-6EE2-4151-B18B-B3F45D06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CEDCD-3E47-47C5-BE4E-A5696F65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C211D-EA46-431D-89E1-D149386D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B87A6-AE80-4546-85E3-12DD5C1A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0F65B-8F54-4EB7-8153-D245CFC5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75FD8-29B3-4925-A984-C0BA461B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41B33-0E5A-4344-AD63-358AA9B3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0ACE0-982E-40B4-BF5C-89AB8247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A0CDE-DDD6-428F-8D0A-5B91BF4A5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1E81-CC53-4198-9713-90C973DC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DF544-BB7E-4676-9395-4C774EA67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89589-961A-4CBD-903D-AC225E8A7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C6078-6A6C-4DD1-9AB9-EB92EE06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CF36E-A94A-41FB-A343-C90C9DC42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BC20E-1769-421A-9E76-98788103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AA919-D14F-4ED1-BB5E-AE8AFC63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936DA-E90F-4A48-A4E4-93A62718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67D8D-D0AB-4B57-BD8C-3725B544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A6DB8-997F-4B66-9749-A23505CC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36A2B-AAC2-4663-A89E-D4F8C567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4473-1B67-4641-AEA5-F1FF76B3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C9CEB-9B90-41B1-81D6-6687158A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607FB-0A2B-486C-AA4E-E637EA024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8DD26-0B63-4EB6-AC19-EBF960BDE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F4C2B-5A8C-413A-8CA3-0F27E0461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D7342-AE59-4BDD-9E87-245AECDC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DC650-BECC-44A0-897C-0DFFD5E0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AFF53-D0F7-4F2D-9F55-A91854AB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36171-0B76-490A-9B17-E5036DA1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2DCA5-3134-46C6-B9F9-7620515C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A4D72-E7CD-4710-B097-F287F7D4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A427-B0E7-444D-8564-AC80C1EF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2CD4E-7242-4536-A336-947FA2CE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96FB6-9656-43E1-B615-DB7EB0CD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05481-0487-4C3A-8C20-56A792F3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FB31E-EF36-4D7A-99BB-4DA37AF62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799BB-E459-4864-9048-D36B27954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B379-54A9-4FA0-8162-07B68DEE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F9AF-FC80-4321-AAEC-418333D78D54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05FC-5516-4A50-9C7F-FF147AEEB1FD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5C2A-6703-4430-BFCE-5766DF9600AE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3778-69BD-4678-8944-FAC6D266FFDF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DE60-B612-4AEF-969A-7DCC57FDEF71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288E-3E34-4E50-83E1-046040CA5B37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80960" y="1217520"/>
              <a:ext cx="640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520" y="1282680"/>
              <a:ext cx="90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80960" y="1282320"/>
              <a:ext cx="640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520" y="1370160"/>
            <a:ext cx="128880" cy="131400"/>
            <a:chOff x="8669520" y="1370160"/>
            <a:chExt cx="12888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33960" y="1370160"/>
              <a:ext cx="644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520" y="1435320"/>
              <a:ext cx="910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33960" y="1434960"/>
              <a:ext cx="644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400" y="1473120"/>
            <a:ext cx="128880" cy="131400"/>
            <a:chOff x="8321400" y="1473120"/>
            <a:chExt cx="12888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85840" y="1473120"/>
              <a:ext cx="644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400" y="1538280"/>
              <a:ext cx="90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85840" y="1537920"/>
              <a:ext cx="644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EDEF-1194-4BBB-A43D-0ACD602D3115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2567160" y="2041560"/>
            <a:ext cx="6656040" cy="218916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1500120" y="4500720"/>
            <a:ext cx="7500960" cy="200016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                 </a:t>
            </a: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Ржевская Альбина Ильинична,      учитель русского языка и литературы ВКК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г.Иркутск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0" name="TextBox 3" descr=""/>
          <p:cNvPicPr/>
          <p:nvPr/>
        </p:nvPicPr>
        <p:blipFill>
          <a:blip r:embed="rId2"/>
          <a:stretch/>
        </p:blipFill>
        <p:spPr>
          <a:xfrm>
            <a:off x="-96840" y="158760"/>
            <a:ext cx="2571840" cy="2133720"/>
          </a:xfrm>
          <a:prstGeom prst="rect">
            <a:avLst/>
          </a:prstGeom>
          <a:ln w="0">
            <a:noFill/>
          </a:ln>
        </p:spPr>
      </p:pic>
      <p:sp>
        <p:nvSpPr>
          <p:cNvPr id="371" name="Прямоугольник 5"/>
          <p:cNvSpPr/>
          <p:nvPr/>
        </p:nvSpPr>
        <p:spPr>
          <a:xfrm>
            <a:off x="2286000" y="142920"/>
            <a:ext cx="642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ода Иркутс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едняя общеобразовательная школа № 18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900"/>
                            </p:stCondLst>
                            <p:childTnLst>
                              <p:par>
                                <p:cTn id="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7" descr="Письма читателей&quot; - карточка пользователя Koel в Яндекс.Колл"/>
          <p:cNvPicPr/>
          <p:nvPr/>
        </p:nvPicPr>
        <p:blipFill>
          <a:blip r:embed="rId1"/>
          <a:stretch/>
        </p:blipFill>
        <p:spPr>
          <a:xfrm>
            <a:off x="52560" y="0"/>
            <a:ext cx="900108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786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197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м чтение…</a:t>
            </a:r>
            <a:br>
              <a:rPr sz="36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он был потрясен, как ждал субботы:                 первое любовное письмо за всю жизнь! В субботу он сходил к парикмахеру, купил новые (сиреневые) перчатки, новый (серый с красной искрой, под цвет костюму) галстук; дома, наряжаясь перед зеркалом, без конца перевязывал этот галстук своими длинными, тонкими пальцами, холодными и дрожащими; на щеках его, под тонкой кожей, разлился красивый, пятнистый румянец, прекрасные глаза потемнели... Потом, наряженный, он сел в кресло, - как гость, как чужой в своей собственной квартире, - и стал ждать рокового час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706320" y="64260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22000"/>
          </a:bodyPr>
          <a:p>
            <a:pPr marL="11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торая остановка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11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118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ему РОКОВОГО часа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18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тите внимание на цвета. Какой оттенок превалирует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18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пробуйте передать чувства героя через определения  или букет цветов, или цветовую палитру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18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бы вы себя чувствовали в подобной ситуации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18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нового узнали о герое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18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вы думаете, чего ожидает от свидания горбун?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1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7" descr="Письма читателей&quot; - карточка пользователя Koel в Яндекс.Колл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56760" y="285840"/>
            <a:ext cx="835812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197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м чтение…</a:t>
            </a: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ец в столовой важно, грозно пробило шесть с половиной. Он содрогнулся, поднялся, все-таки сдержанно, не спеша надел в прихожей весеннюю шляпу, взял трость и медленно вышел. Но на улице уже не мог владеть собой - зашагал своими длинными и тонкими ногами быстрее, со всей вызывающей важностью, присущей горбу, но объятый тем блаженным страхом, с которым всегда предвкушаем мы счастье. Когда же быстро вошел в сквер возле собора, вдруг…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706320" y="571320"/>
            <a:ext cx="8151840" cy="175716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42000"/>
          </a:bodyPr>
          <a:p>
            <a:pPr marL="2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етья остановка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2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вы думаете, будет ли то самое счастье?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26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ему, по каким словам мы понимаем, что счастья не будет?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26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думаете, почему же оцепенел? Ваши мысли?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 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А.П.Чехов сказал в одном из своих рассказов: «Ох, уж это вдруг»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26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положите, что могло произойти дальше. Мнение обоснуйте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4" descr="https://avatars.mds.yandex.net/get-pdb/1209663/de49fcea-04e7-4883-88bc-97cae7575152/orig"/>
          <p:cNvPicPr/>
          <p:nvPr/>
        </p:nvPicPr>
        <p:blipFill>
          <a:blip r:embed="rId1"/>
          <a:stretch/>
        </p:blipFill>
        <p:spPr>
          <a:xfrm>
            <a:off x="0" y="-214200"/>
            <a:ext cx="9190080" cy="70722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 rot="21404400">
            <a:off x="361800" y="4213080"/>
            <a:ext cx="8562960" cy="2360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Consolas"/>
              </a:rPr>
              <a:t>… </a:t>
            </a:r>
            <a:r>
              <a:rPr b="0" lang="ru-RU" sz="2700" spc="-1" strike="noStrike">
                <a:solidFill>
                  <a:srgbClr val="ff0000"/>
                </a:solidFill>
                <a:latin typeface="Consolas"/>
              </a:rPr>
              <a:t>оцепенел на месте: навстречу ему, в розовом свете весенней зари, важными и длинными шагами шла в сером костюме и хорошенькой шляпке, похожей на мужскую, с зонтиком в левой руке и с фиалками в правой, </a:t>
            </a:r>
            <a:endParaRPr b="0" lang="en-US" sz="27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1" name="TextBox 7"/>
          <p:cNvSpPr/>
          <p:nvPr/>
        </p:nvSpPr>
        <p:spPr>
          <a:xfrm>
            <a:off x="3643200" y="4357800"/>
            <a:ext cx="2571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mph" presetID="19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2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83" dur="2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4" dur="20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C:\Documents and Settings\user\Рабочий стол\открытые уроки\httpwww.flowersweb.infoforumforum9topic69307messages.jpg"/>
          <p:cNvPicPr/>
          <p:nvPr/>
        </p:nvPicPr>
        <p:blipFill>
          <a:blip r:embed="rId1"/>
          <a:stretch/>
        </p:blipFill>
        <p:spPr>
          <a:xfrm>
            <a:off x="0" y="-115920"/>
            <a:ext cx="9144000" cy="6973920"/>
          </a:xfrm>
          <a:prstGeom prst="rect">
            <a:avLst/>
          </a:prstGeom>
          <a:ln w="0">
            <a:noFill/>
          </a:ln>
        </p:spPr>
      </p:pic>
      <p:sp>
        <p:nvSpPr>
          <p:cNvPr id="403" name="TextBox 7"/>
          <p:cNvSpPr/>
          <p:nvPr/>
        </p:nvSpPr>
        <p:spPr>
          <a:xfrm>
            <a:off x="2143080" y="1643040"/>
            <a:ext cx="4857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1" lang="ru-RU" sz="6000" spc="-1" strike="noStrike">
                <a:solidFill>
                  <a:srgbClr val="ffe39d"/>
                </a:solidFill>
                <a:latin typeface="Corbel"/>
              </a:rPr>
              <a:t>- горбунья</a:t>
            </a:r>
            <a:r>
              <a:rPr b="0" lang="ru-RU" sz="6000" spc="-1" strike="noStrike">
                <a:solidFill>
                  <a:srgbClr val="ffe39d"/>
                </a:solidFill>
                <a:latin typeface="Corbel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Box 8"/>
          <p:cNvSpPr/>
          <p:nvPr/>
        </p:nvSpPr>
        <p:spPr>
          <a:xfrm>
            <a:off x="0" y="30718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rbel"/>
              </a:rPr>
              <a:t>Беспощаден кто-то к человеку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Picture 4" descr="https://avatars.mds.yandex.net/get-pdb/1357752/27ca73e4-4fce-4cb2-a29c-08aef440ea29/orig"/>
          <p:cNvPicPr/>
          <p:nvPr/>
        </p:nvPicPr>
        <p:blipFill>
          <a:blip r:embed="rId2"/>
          <a:stretch/>
        </p:blipFill>
        <p:spPr>
          <a:xfrm>
            <a:off x="0" y="-39600"/>
            <a:ext cx="216360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0"/>
                            </p:stCondLst>
                            <p:childTnLst>
                              <p:par>
                                <p:cTn id="202" nodeType="afterEffect" fill="hold" presetClass="emph" presetID="19" repeatCount="2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2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5" dur="2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9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7643520" cy="32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3600" spc="-1" strike="noStrike">
                <a:solidFill>
                  <a:srgbClr val="ffffff"/>
                </a:solidFill>
                <a:latin typeface="Consolas"/>
              </a:rPr>
              <a:t>- Ожидали ли вы такого поворота событий?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nsolas"/>
              </a:rPr>
              <a:t> - Что произойдёт после этого?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onsolas"/>
              </a:rPr>
              <a:t> - Что означают последние слова «беспощаден кто-то к человеку»?</a:t>
            </a:r>
            <a:br>
              <a:rPr sz="4400"/>
            </a:br>
            <a:br>
              <a:rPr sz="4400"/>
            </a:br>
            <a:br>
              <a:rPr sz="3400"/>
            </a:b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705960" y="2071800"/>
            <a:ext cx="7866360" cy="25704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6000"/>
          </a:bodyPr>
          <a:p>
            <a:pPr marL="324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А был ли роман?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24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Присутствует ли любовь?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240"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Так кто же беспощаден к человеку?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1eeff"/>
                </a:solidFill>
                <a:latin typeface="Consolas"/>
              </a:rPr>
              <a:t>Сделаем выводы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8151840" cy="97776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21000"/>
          </a:bodyPr>
          <a:p>
            <a:pPr marL="1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1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1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1.Тема (одно существительное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1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2.Описание темы (два прилагательных или причастия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1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3.Характеристика темы (три глагола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1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4.Отношение к теме (фраза из четырех слов)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1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5.Синоним, обобщающий или расширяющий смысл темы 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1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title"/>
          </p:nvPr>
        </p:nvSpPr>
        <p:spPr>
          <a:xfrm>
            <a:off x="705960" y="285480"/>
            <a:ext cx="8156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1eeff"/>
                </a:solidFill>
                <a:latin typeface="Consolas"/>
              </a:rPr>
              <a:t>РАБОТА в группах</a:t>
            </a:r>
            <a:br>
              <a:rPr sz="3800"/>
            </a:br>
            <a:br>
              <a:rPr sz="3800"/>
            </a:br>
            <a:r>
              <a:rPr b="1" lang="ru-RU" sz="3800" spc="-1" strike="noStrike">
                <a:solidFill>
                  <a:srgbClr val="c1eeff"/>
                </a:solidFill>
                <a:latin typeface="Consolas"/>
              </a:rPr>
              <a:t>Синквейн</a:t>
            </a: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8151840" cy="97776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21000"/>
          </a:bodyPr>
          <a:p>
            <a:pPr marL="1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стихотворная форма из семи строк, первая и последняя из которых — понятия с противоположным значением. Этот вид стиха составляется по следующей схеме: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строчка 1: тема (существительное)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строчка 2: определение (2 прилагательных)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строчка 3: действие (3 причастия)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строчка 4: ассоциации (4 существительных)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строчка 5: действие (3 причастия)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строчка 6: определение (2 прилагательных)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строчка 7: тема (существительное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1eeff"/>
                </a:solidFill>
                <a:latin typeface="Consolas"/>
              </a:rPr>
              <a:t>Диамант</a:t>
            </a:r>
            <a:endParaRPr b="0" lang="en-US" sz="38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857160" y="214200"/>
            <a:ext cx="8143920" cy="100008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49000"/>
          </a:bodyPr>
          <a:p>
            <a:pPr marL="26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Цель: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2628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поделиться опытом работы с коллегами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26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Задачи: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499680" y="2357280"/>
            <a:ext cx="8643960" cy="41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olas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nsolas"/>
              </a:rPr>
              <a:t>- учиться анализировать информацию, отвергать ненужную,  формулировать вопросы и находить на них ответы;</a:t>
            </a:r>
            <a:br>
              <a:rPr sz="2800"/>
            </a:br>
            <a:r>
              <a:rPr b="0" lang="ru-RU" sz="2800" spc="-1" strike="noStrike">
                <a:solidFill>
                  <a:srgbClr val="c1eeff"/>
                </a:solidFill>
                <a:latin typeface="Consolas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Consolas"/>
              </a:rPr>
              <a:t>научиться понимать своеобразие авторской позиции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nsolas"/>
              </a:rPr>
              <a:t> - уметь выделять значимые детали в тексте и использовать их для характеристики героев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nsolas"/>
              </a:rPr>
              <a:t> - учиться создавать собственные тексты.</a:t>
            </a:r>
            <a:br>
              <a:rPr sz="2800"/>
            </a:br>
            <a:br>
              <a:rPr sz="3400"/>
            </a:br>
            <a:r>
              <a:rPr b="0" lang="ru-RU" sz="3400" spc="-1" strike="noStrike">
                <a:solidFill>
                  <a:srgbClr val="c1eeff"/>
                </a:solidFill>
                <a:latin typeface="Consolas"/>
              </a:rPr>
              <a:t> </a:t>
            </a:r>
            <a:br>
              <a:rPr sz="3400"/>
            </a:br>
            <a:endParaRPr b="0" lang="en-US" sz="34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706320" y="1143000"/>
            <a:ext cx="8151840" cy="118584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23000"/>
          </a:bodyPr>
          <a:p>
            <a:pPr marL="12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Стих в виде хайку написать несколько труднее, потому что в нем выражается личное переживание человека. Вместе с тем эта стихотворная форма также имеет определённые плюсы. В хайку самым гармоничным образом сочетается работа с понятием и эмоциональное отношение к нему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2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2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Строчка 1: «Я видел» кого-то или что-то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2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Строчка 2: Какого?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2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Строчка 3: Как?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22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Снегирь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22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Я видел птицу,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22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Прилетевшую зимой,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22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Красиво…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2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2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705960" y="213840"/>
            <a:ext cx="8156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1eeff"/>
                </a:solidFill>
                <a:latin typeface="Consolas"/>
              </a:rPr>
              <a:t>Что такое хайку?</a:t>
            </a:r>
            <a:br>
              <a:rPr sz="2000"/>
            </a:b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7151760" cy="97776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23000"/>
          </a:bodyPr>
          <a:p>
            <a:pPr marL="12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пишутся по следующим правилам: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2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1-я строка. 1 существительное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2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2-я строка. 2 прилагательных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2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3-я строка. 3 причастия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2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4-я строка. 4 глагола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2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5-я строка. 5 наречий (или деепричастий)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2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6-я строка. Сложносочинённое или сложноподчинённое предложение по теме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2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1eeff"/>
                </a:solidFill>
                <a:latin typeface="Consolas"/>
              </a:rPr>
              <a:t>Штрихи</a:t>
            </a:r>
            <a:endParaRPr b="0" lang="en-US" sz="38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19" name="Picture 2" descr="http://lusana.ru/files/2537/573/2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http://fs00.infourok.ru/images/doc/309/309094/img5.jpg"/>
          <p:cNvPicPr/>
          <p:nvPr/>
        </p:nvPicPr>
        <p:blipFill>
          <a:blip r:embed="rId2"/>
          <a:stretch/>
        </p:blipFill>
        <p:spPr>
          <a:xfrm rot="21183000">
            <a:off x="122400" y="4610160"/>
            <a:ext cx="246852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1eeff"/>
                </a:solidFill>
                <a:latin typeface="Consolas"/>
              </a:rPr>
              <a:t>Рефлексия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2" name="Rectangle 1"/>
          <p:cNvSpPr/>
          <p:nvPr/>
        </p:nvSpPr>
        <p:spPr>
          <a:xfrm>
            <a:off x="1285920" y="2155680"/>
            <a:ext cx="6929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хочу сказать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годня  мне было 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думаю, что</a:t>
            </a:r>
            <a:r>
              <a:rPr b="1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3" descr="C:\Users\rjevskaya\Desktop\52b3ae6523f9e27e4fadd847e01ec66c.jpg"/>
          <p:cNvPicPr/>
          <p:nvPr/>
        </p:nvPicPr>
        <p:blipFill>
          <a:blip r:embed="rId1"/>
          <a:stretch/>
        </p:blipFill>
        <p:spPr>
          <a:xfrm>
            <a:off x="139680" y="142920"/>
            <a:ext cx="9004320" cy="671508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4"/>
          <p:cNvSpPr/>
          <p:nvPr/>
        </p:nvSpPr>
        <p:spPr>
          <a:xfrm>
            <a:off x="2714760" y="1365120"/>
            <a:ext cx="6143400" cy="192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В бездонном небе легким белым кра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Встает, сияет облако. Дав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Слежу за ним…  Мы мало видим , знае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А счастье только знающим дано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                          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.А. Бун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85840" y="1500120"/>
            <a:ext cx="785808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2400"/>
            </a:br>
            <a:endParaRPr b="0" lang="en-US" sz="1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05960" y="1500120"/>
            <a:ext cx="8223480" cy="82872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59000"/>
          </a:bodyPr>
          <a:p>
            <a:pPr marL="3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rbel"/>
              </a:rPr>
              <a:t>БЛАГОДАРЮ ЗА  СОТРУДНИЧЕСТВО!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428760" y="357120"/>
            <a:ext cx="8501040" cy="74304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83000"/>
          </a:bodyPr>
          <a:p>
            <a:pPr marL="44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rbel"/>
              </a:rPr>
              <a:t>Используемые приёмы: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571320" y="2428920"/>
            <a:ext cx="81435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0" lang="ru-RU" sz="3400" spc="-1" strike="noStrike">
                <a:solidFill>
                  <a:srgbClr val="c1eeff"/>
                </a:solidFill>
                <a:latin typeface="Consolas"/>
              </a:rPr>
              <a:t>- чтение с остановками;</a:t>
            </a:r>
            <a:br>
              <a:rPr sz="3400"/>
            </a:br>
            <a:r>
              <a:rPr b="0" lang="ru-RU" sz="3400" spc="-1" strike="noStrike">
                <a:solidFill>
                  <a:srgbClr val="c1eeff"/>
                </a:solidFill>
                <a:latin typeface="Consolas"/>
              </a:rPr>
              <a:t> - обращение к личному  опыту;</a:t>
            </a:r>
            <a:br>
              <a:rPr sz="3400"/>
            </a:br>
            <a:r>
              <a:rPr b="0" lang="ru-RU" sz="3400" spc="-1" strike="noStrike">
                <a:solidFill>
                  <a:srgbClr val="c1eeff"/>
                </a:solidFill>
                <a:latin typeface="Consolas"/>
              </a:rPr>
              <a:t> - прогнозирование;</a:t>
            </a:r>
            <a:br>
              <a:rPr sz="3400"/>
            </a:br>
            <a:r>
              <a:rPr b="0" lang="ru-RU" sz="3400" spc="-1" strike="noStrike">
                <a:solidFill>
                  <a:srgbClr val="c1eeff"/>
                </a:solidFill>
                <a:latin typeface="Consolas"/>
              </a:rPr>
              <a:t> - синквейн, диамант, хайку, штрихи;</a:t>
            </a:r>
            <a:br>
              <a:rPr sz="3400"/>
            </a:br>
            <a:r>
              <a:rPr b="0" lang="ru-RU" sz="3400" spc="-1" strike="noStrike">
                <a:solidFill>
                  <a:srgbClr val="c1eeff"/>
                </a:solidFill>
                <a:latin typeface="Consolas"/>
              </a:rPr>
              <a:t> - ромашка Блума.</a:t>
            </a:r>
            <a:br>
              <a:rPr sz="3400"/>
            </a:br>
            <a:r>
              <a:rPr b="0" lang="ru-RU" sz="3400" spc="-1" strike="noStrike">
                <a:solidFill>
                  <a:srgbClr val="c1eeff"/>
                </a:solidFill>
                <a:latin typeface="Consolas"/>
              </a:rPr>
              <a:t> </a:t>
            </a:r>
            <a:endParaRPr b="0" lang="en-US" sz="34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8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571680" y="214200"/>
            <a:ext cx="8215200" cy="74304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rbel"/>
              </a:rPr>
              <a:t>И.А. Бунин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7" name="Picture 6" descr="bunin103"/>
          <p:cNvPicPr/>
          <p:nvPr/>
        </p:nvPicPr>
        <p:blipFill>
          <a:blip r:embed="rId1"/>
          <a:stretch/>
        </p:blipFill>
        <p:spPr>
          <a:xfrm>
            <a:off x="785880" y="1546200"/>
            <a:ext cx="2662200" cy="3525840"/>
          </a:xfrm>
          <a:prstGeom prst="rect">
            <a:avLst/>
          </a:prstGeom>
          <a:ln w="0">
            <a:noFill/>
          </a:ln>
        </p:spPr>
      </p:pic>
      <p:sp>
        <p:nvSpPr>
          <p:cNvPr id="378" name="Текст 2"/>
          <p:cNvSpPr/>
          <p:nvPr/>
        </p:nvSpPr>
        <p:spPr>
          <a:xfrm>
            <a:off x="3571920" y="714240"/>
            <a:ext cx="5357880" cy="57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та рождения: 10 (22) октября 18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сто рождения: Воронеж, Российская импер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та смерти: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 ноября 1953 (83 год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сто смерти: Париж, Фран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мии: Пушкинская прем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степени за перевод «Песни о Гайавате» Лонгфел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белевская премия по литературе (1933) "за строгое мастерство, с которым он развивает традиции русской классической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зы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499680" y="499680"/>
            <a:ext cx="8286840" cy="150012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4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rbel"/>
              </a:rPr>
              <a:t>Прогнозирование по названию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642960" y="2142720"/>
            <a:ext cx="82152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1eeff"/>
                </a:solidFill>
                <a:latin typeface="Consolas"/>
              </a:rPr>
              <a:t> </a:t>
            </a:r>
            <a:br>
              <a:rPr sz="3400"/>
            </a:br>
            <a:r>
              <a:rPr b="0" lang="ru-RU" sz="3400" spc="-1" strike="noStrike">
                <a:solidFill>
                  <a:srgbClr val="c1eeff"/>
                </a:solidFill>
                <a:latin typeface="Consolas"/>
              </a:rPr>
              <a:t>- Рассказ называется «Роман горбуна». Как вы думаете, о чём это произведение?</a:t>
            </a:r>
            <a:endParaRPr b="0" lang="en-US" sz="34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200"/>
                            </p:stCondLst>
                            <p:childTnLst>
                              <p:par>
                                <p:cTn id="7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3" descr="C:\Users\rjevskaya\Desktop\52b3ae6523f9e27e4fadd847e01ec66c.jpg"/>
          <p:cNvPicPr/>
          <p:nvPr/>
        </p:nvPicPr>
        <p:blipFill>
          <a:blip r:embed="rId1"/>
          <a:stretch/>
        </p:blipFill>
        <p:spPr>
          <a:xfrm>
            <a:off x="139680" y="142920"/>
            <a:ext cx="9004320" cy="671508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4"/>
          <p:cNvSpPr/>
          <p:nvPr/>
        </p:nvSpPr>
        <p:spPr>
          <a:xfrm>
            <a:off x="2500200" y="1079280"/>
            <a:ext cx="6357960" cy="192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О счастье мы всегда лишь вспомина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А счастье всюду. Может быть, о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Вот этот сад осенний за сара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 чистый воздух, льющийся в окно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                               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.А. Бун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285480" y="1571760"/>
            <a:ext cx="778644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Были ли в вашей жизни моменты, когда вами владело предчувствие чего-то прекрасного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 algn="just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спомните, какие чувства вы испытывали в ожидании счастья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 algn="just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А можно ли испытывать страх? Если да, то какой он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 algn="just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лучалось ли вам обманываться в своих надеждах и ожиданиях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 algn="just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очему так происходит? Кто или что вершит судьбами людей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4" name="TextBox 3"/>
          <p:cNvSpPr/>
          <p:nvPr/>
        </p:nvSpPr>
        <p:spPr>
          <a:xfrm>
            <a:off x="714240" y="285840"/>
            <a:ext cx="5572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rbel"/>
              </a:rPr>
              <a:t>Стадия вызов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9" descr="https://avatars.mds.yandex.net/get-pdb/1572252/eb2742fc-0296-47e0-8c1b-2aa902a81a7f/s1200"/>
          <p:cNvPicPr/>
          <p:nvPr/>
        </p:nvPicPr>
        <p:blipFill>
          <a:blip r:embed="rId1"/>
          <a:stretch/>
        </p:blipFill>
        <p:spPr>
          <a:xfrm>
            <a:off x="6757920" y="0"/>
            <a:ext cx="2386080" cy="28576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1" descr="https://cdn.pixabay.com/photo/2017/08/08/09/05/flowers-2610772_960_720.png"/>
          <p:cNvPicPr/>
          <p:nvPr/>
        </p:nvPicPr>
        <p:blipFill>
          <a:blip r:embed="rId2"/>
          <a:stretch/>
        </p:blipFill>
        <p:spPr>
          <a:xfrm>
            <a:off x="6438960" y="4524480"/>
            <a:ext cx="2705040" cy="233352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71320" y="928440"/>
            <a:ext cx="814356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nsolas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Consolas"/>
              </a:rPr>
              <a:t>Горбун получил анонимное любовное письмо, приглашение на свидание: 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nsolas"/>
              </a:rPr>
              <a:t>     - Будьте в субботу пятого апреля в семь часов вечера, в сквере на Соборной площади. Я молода, богата, свободна и - к чему скрывать! - давно знаю, давно люблю вас, ваш гордый и печальный взор, ваш благородный, умный лоб, ваше одиночество... Я хочу надеяться, что и Вы найдете, быть может, во мне душу, родную Вам... Мои приметы: серый английский костюм, в левой руке шелковый лиловый зонтик, в правой - букетик фиалок</a:t>
            </a:r>
            <a:r>
              <a:rPr b="0" lang="ru-RU" sz="2800" spc="-1" strike="noStrike">
                <a:solidFill>
                  <a:srgbClr val="835e01"/>
                </a:solidFill>
                <a:latin typeface="Consolas"/>
              </a:rPr>
              <a:t>... 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TextBox 3"/>
          <p:cNvSpPr/>
          <p:nvPr/>
        </p:nvSpPr>
        <p:spPr>
          <a:xfrm>
            <a:off x="1285920" y="28584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Corbel"/>
              </a:rPr>
              <a:t>РОМАН ГОРБУ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9" name="Picture 7" descr="Письма читателей&quot; - карточка пользователя Koel в Яндекс.Колл"/>
          <p:cNvPicPr/>
          <p:nvPr/>
        </p:nvPicPr>
        <p:blipFill>
          <a:blip r:embed="rId3"/>
          <a:stretch/>
        </p:blipFill>
        <p:spPr>
          <a:xfrm rot="20649600">
            <a:off x="372960" y="23328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856800" y="285480"/>
            <a:ext cx="5397480" cy="85716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88000"/>
          </a:bodyPr>
          <a:p>
            <a:pPr marL="47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rbel"/>
              </a:rPr>
              <a:t>Первая остановка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571320" y="857160"/>
            <a:ext cx="807228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marL="92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onsolas"/>
              </a:rPr>
              <a:t>-Какой вопрос у вас возникает?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onsolas"/>
              </a:rPr>
              <a:t>-Что мы можем предположить?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onsolas"/>
              </a:rPr>
              <a:t>-Как вы думаете, кто написал письмо?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onsolas"/>
              </a:rPr>
              <a:t>-Автор письма пишет: «…Вы найдёте, быть может, во мне душу, родную Вам…» -В чём может обнаружиться родство?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onsolas"/>
              </a:rPr>
              <a:t>-Предположите, как отреагирует горбун?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onsolas"/>
              </a:rPr>
              <a:t> 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2" name="Picture 2" descr="C:\Documents and Settings\Olga\Мои документы\Animated\Анимация\знак вопроса.gif"/>
          <p:cNvPicPr/>
          <p:nvPr/>
        </p:nvPicPr>
        <p:blipFill>
          <a:blip r:embed="rId1"/>
          <a:stretch/>
        </p:blipFill>
        <p:spPr>
          <a:xfrm>
            <a:off x="8143920" y="21420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2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2T18:08:47Z</dcterms:created>
  <dc:creator>Olga</dc:creator>
  <dc:description/>
  <dc:language>en-US</dc:language>
  <cp:lastModifiedBy>Ржевская А.И</cp:lastModifiedBy>
  <dcterms:modified xsi:type="dcterms:W3CDTF">2021-10-29T01:38:31Z</dcterms:modified>
  <cp:revision>83</cp:revision>
  <dc:subject/>
  <dc:title>Урок литературы в 11 классе И.А.Бунин «Роман горбуна»</dc:title>
</cp:coreProperties>
</file>